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01440" y="76176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584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0164-FC3B-40BF-90F9-28684AAF3F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36D6-63CE-43D1-85BA-CF80B19E3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64008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2687400"/>
            <a:ext cx="64008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5618-EE69-46E8-AE7A-97807765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9280" y="220968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268740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9280" y="268740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008A-7F1A-4A3F-A5D7-8C9501975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20606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83280" y="2209680"/>
            <a:ext cx="20606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47600" y="2209680"/>
            <a:ext cx="20606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2687400"/>
            <a:ext cx="20606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83280" y="2687400"/>
            <a:ext cx="20606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47600" y="2687400"/>
            <a:ext cx="20606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1B51-9802-48DF-AC3C-A6C553FB2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19320" y="22096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3123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499280" y="2209680"/>
            <a:ext cx="3123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2819160"/>
            <a:ext cx="77724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499280" y="2209680"/>
            <a:ext cx="3123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19320" y="268740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22096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AC92-09E3-4FBD-A966-71692776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3123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99280" y="220968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499280" y="268740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99280" y="220968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2687400"/>
            <a:ext cx="64008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64008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219320" y="2687400"/>
            <a:ext cx="64008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99280" y="220968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19320" y="268740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499280" y="268740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20606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83280" y="2209680"/>
            <a:ext cx="20606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47600" y="2209680"/>
            <a:ext cx="20606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219320" y="2687400"/>
            <a:ext cx="20606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83280" y="2687400"/>
            <a:ext cx="20606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47600" y="2687400"/>
            <a:ext cx="20606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6CCD-1991-45D5-83AF-BCCE99D0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3123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9280" y="2209680"/>
            <a:ext cx="3123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CFDC-224E-43F3-875A-4974F06F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326F-A94D-4840-A833-AB3E4F34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819160"/>
            <a:ext cx="77724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0E18-E3A0-4718-8A38-E130B1B4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9280" y="2209680"/>
            <a:ext cx="3123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268740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0EC6-DCC2-4371-BCF9-2B9DA1C8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3123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9280" y="220968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9280" y="268740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F10C-4CDF-49C7-AA57-13AC7BED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9280" y="220968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2687400"/>
            <a:ext cx="64008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DE41-A602-4492-9876-741CE45D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9D99-A1C0-458C-BA1B-AFAD83302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Times New Roman"/>
              </a:rPr>
              <a:t>Agencija za javne nabavk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32000" y="256536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Nova zakonska rješenja u postupcima javnih nabavk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bs-BA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bs-BA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600" spc="-1" strike="noStrike">
                <a:solidFill>
                  <a:srgbClr val="000000"/>
                </a:solidFill>
                <a:latin typeface="Gill Sans MT"/>
              </a:rPr>
              <a:t>Sukob interesa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Gill Sans MT"/>
              </a:rPr>
              <a:t>Novo definisanje sukoba interesa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Gill Sans MT"/>
              </a:rPr>
              <a:t>Veliki problem obzirom na veličinu tržišta u Bosni i Hercegovini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Gill Sans MT"/>
              </a:rPr>
              <a:t>Obezbjedit će se veći stepen transparentnosti rada komisija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Gill Sans MT"/>
              </a:rPr>
              <a:t>Posebno bitno za javna preduzeća i upravljačke strukture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ill Sans MT"/>
              </a:rPr>
              <a:t>Bitne izmjene postojećih rješenj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Podugovaranje se ne može zabraniti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Konkurentski zahtjev za dostavu ponuda daje nova rješenja  i bitno se povećava stepen transparentnosti u ovom postupku nabavke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Preventivno-instruktivna djelatnost . Daje znatno veće ovlasti AJN i uvodi jedan oblik inspekcijskog nadzora – rješenje koje nije blisko rješenjima u EU;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Pravna zaštita daje rješenja koja će ubrzati sam postupak javne nabavke, ali i veće ovlasti URŽ-u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Uvode se prekršajne prijave koje mogu podnijet AJN i URŽ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ill Sans MT"/>
              </a:rPr>
              <a:t>Ostala unapređenja postojećih rješenj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Proširuju se izuzeća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Fleksibilnije se definiše postupanje za predmete nabavke iz Aneksa II dio B;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Procjena vrijenosti nabavke i garancije se definišu zakonom a ne podzakonskim aktom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Nema mogućnosti tražiti garanciju za ponudu za nabavke vrijednosti manje od 100.000,00 KM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Upravni spor mogu pokrenuti i ugovorni organi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Druga unapređenja koja će postupak učiniti efikasnijim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24000" y="404640"/>
            <a:ext cx="85690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bs-BA" sz="3200" spc="-1" strike="noStrike">
                <a:solidFill>
                  <a:srgbClr val="000000"/>
                </a:solidFill>
                <a:latin typeface="Arial"/>
              </a:rPr>
              <a:t>Vremenska linija postup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1557360"/>
            <a:ext cx="9144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Ju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56000" y="1557360"/>
            <a:ext cx="9144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Augu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8000" y="1989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64000" y="1989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11640" y="1557360"/>
            <a:ext cx="914400" cy="914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Septem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19640" y="1989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67280" y="1557360"/>
            <a:ext cx="914400" cy="914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Septem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77080" y="1989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24720" y="155736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Okto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306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3640" y="263700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Okto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71640" y="306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19640" y="2637000"/>
            <a:ext cx="91440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Novem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00720" y="306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48360" y="2637000"/>
            <a:ext cx="91440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Novem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27640" y="306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77080" y="263700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Decem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4149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371628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Decem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1640" y="4149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19640" y="3716280"/>
            <a:ext cx="91440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Janu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27640" y="4149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48360" y="3716280"/>
            <a:ext cx="914400" cy="9144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Febru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56360" y="4149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77080" y="3716280"/>
            <a:ext cx="914400" cy="9144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M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5300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3640" y="4869000"/>
            <a:ext cx="914400" cy="914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Apr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71640" y="5300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19640" y="4869000"/>
            <a:ext cx="914400" cy="914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Apr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27640" y="5300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76720" y="486900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2 mjese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84720" y="5300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32720" y="486900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Ma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89647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Gill Sans MT"/>
              </a:rPr>
              <a:t>Tok postupk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1341360"/>
            <a:ext cx="115272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Prikupljanj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potreba 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analiza tržiš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1844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11640" y="1341360"/>
            <a:ext cx="115236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Analiza tržiš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i zbir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iskaz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potre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2728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184464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84720" y="1341360"/>
            <a:ext cx="107964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Procje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vrijednos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nabav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35640" y="1773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9640" y="2492280"/>
            <a:ext cx="93672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Odab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vrs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postup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08720" y="177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68360" y="2492280"/>
            <a:ext cx="108144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Odluka 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pokretan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postup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19280" y="28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11640" y="2492280"/>
            <a:ext cx="108108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Imenovan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komisije</a:t>
            </a:r>
            <a:r>
              <a:rPr b="0" lang="bs-B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92360" y="28526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2492280"/>
            <a:ext cx="129564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Priprem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tehničk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specifikaci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64000" y="2852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573360"/>
            <a:ext cx="12240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Priprem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obavješten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o nabav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67640" y="292428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56000" y="3573360"/>
            <a:ext cx="12240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Objav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obavještenj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o nabav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08000" y="4076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00720" y="3645000"/>
            <a:ext cx="108108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Prijem 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otvaranj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ponu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80000" y="4076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479736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Evaluacij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ponu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651640" y="4005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68360" y="4797360"/>
            <a:ext cx="107964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Odluka 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izbo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najpovoljnij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ponu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24720" y="4005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940360" y="479736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Ugov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11280" y="1341360"/>
            <a:ext cx="105912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Planiranj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budže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3573360"/>
            <a:ext cx="129564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Priprem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tendersk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dokumentaci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19280" y="522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19640" y="5229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48360" y="522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96360" y="479736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Realizaci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ugov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67280" y="4797360"/>
            <a:ext cx="115236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Obavješten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ponuđači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92720" y="522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Times New Roman"/>
              </a:rPr>
              <a:t>Đinita Foč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219320" y="22096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600" spc="-1" strike="noStrike">
                <a:solidFill>
                  <a:srgbClr val="000000"/>
                </a:solidFill>
                <a:latin typeface="Times New Roman"/>
              </a:rPr>
              <a:t>Hvala na pažnji!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800" spc="-1" strike="noStrike">
                <a:solidFill>
                  <a:srgbClr val="000000"/>
                </a:solidFill>
                <a:latin typeface="Gill Sans MT"/>
              </a:rPr>
              <a:t>Analiza stanja u vezi primjene ZJ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aniji pokušaji usvajanja novog teksta ZJN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Obaveza iz SAA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Uočeni problemi na terenu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Slabosti važećih zakonskih rješenja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Stepen obučenosti kadrova kao rezultat problema u primjeni ZJN 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ješenja u skladu sa važećim pravnim sistemom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Zahtjevi EK i realizacija obaveza iz Evropskog partnerstv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800" spc="-1" strike="noStrike">
                <a:solidFill>
                  <a:srgbClr val="000000"/>
                </a:solidFill>
                <a:latin typeface="Gill Sans MT"/>
              </a:rPr>
              <a:t>Analiza okolnosti izvan U.O i ponuđač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Neusvajanje budžeta, odnosno finansijskih planova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Neadekvatno planiranje za dokumente planiranja za 3 godine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Nepostojanje strateških dokumenata za “velike” projekte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Loša iskorištenost mogućnosti za dodjelu koncesija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Nepostojanje zakonskog okvira za Partnerstvo javnog i privatnog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Neadekvatna legislativa u pogledu obezbjeđenja jedinstvenog ekonomskog prostora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Gill Sans MT"/>
              </a:rPr>
              <a:t>Analiza slabasti unutar ugovornih organ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Gill Sans MT"/>
              </a:rPr>
              <a:t>Početak javne nabavke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Gill Sans MT"/>
              </a:rPr>
              <a:t>Planiranje i strateški pristup velikim projektima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Gill Sans MT"/>
              </a:rPr>
              <a:t>Rad interne revizije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bs-BA" sz="2800" spc="-1" strike="noStrike">
                <a:solidFill>
                  <a:srgbClr val="000000"/>
                </a:solidFill>
                <a:latin typeface="Gill Sans MT"/>
              </a:rPr>
              <a:t>Prepisivanje” tenderske dokumentacije iz ranijih postupaka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Gill Sans MT"/>
              </a:rPr>
              <a:t>Traži se ovlašteni ponuđač, iako za takvo postupanje ne postoji pravni osnov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Gill Sans MT"/>
              </a:rPr>
              <a:t>Nepoznavanje tržišta i promjena na tržištu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Gill Sans MT"/>
              </a:rPr>
              <a:t>Ispitivanje neprirodno niske cijene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Gill Sans MT"/>
              </a:rPr>
              <a:t>Praćenje ralizacije ugovor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600" spc="-1" strike="noStrike">
                <a:solidFill>
                  <a:srgbClr val="000000"/>
                </a:solidFill>
                <a:latin typeface="Gill Sans MT"/>
              </a:rPr>
              <a:t>Analiza slabosti unutar ponuđača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Gill Sans MT"/>
              </a:rPr>
              <a:t>Površan pristup u pripremi ponuda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bs-BA" sz="2800" spc="-1" strike="noStrike">
                <a:solidFill>
                  <a:srgbClr val="000000"/>
                </a:solidFill>
                <a:latin typeface="Gill Sans MT"/>
              </a:rPr>
              <a:t>Prepisivanje” ponude, bez analize tenderske dokumentacije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Gill Sans MT"/>
              </a:rPr>
              <a:t>Neuvezivanje ponuda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Gill Sans MT"/>
              </a:rPr>
              <a:t>Nudi se neprirodno niska cijena, u cilju dobijanja ugovora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Gill Sans MT"/>
              </a:rPr>
              <a:t>Izjavljuje se žalba, u cilju nastavka isporuka po ranijem ugovoru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Gill Sans MT"/>
              </a:rPr>
              <a:t>Loše zastupnjen nastup grupe ponuđač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Gill Sans MT"/>
              </a:rPr>
              <a:t>Novi instituti iz Direktiva EU u cilju unapređenja stanja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Kompetitivni dijalog (čl.29. i 30.)- nova vrsta postupka, za izuzetno složene javne nabavke; vremenski dugo traje, a najčešća upotreba je u postupku dodjele koncesija i odabiru privatnog partnera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Prethodno informacijsko obavještenje (član 37.)- objavom ovog obavještenja, skraćuju se rokovi u toku provođenja postupka – jedna vrsta najave postupaka za za narednu godinu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CPV-Opšti rječnik javnih nabavki (član 38.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Rezervirani ugovori (član 9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Razlozi za odbacivanje zahtjeva za učešće ili ponuda( član 70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800" spc="-1" strike="noStrike">
                <a:solidFill>
                  <a:srgbClr val="000000"/>
                </a:solidFill>
                <a:latin typeface="Gill Sans MT"/>
              </a:rPr>
              <a:t>Nova kategorija ugovornih organa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Sistem kvalifikacija samo za novu kategoriju ugovornih organa  – daje fleksibilnije postupanje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Prestanak postupka javne nabavke i sa 1 primljenom prihvatljivom ponudom, postupak se može nastaviti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Nabavke za ugovorne organe koji obavljaju djelatnosti na području vodosnabdjevanja, energetike, prometa i poštanskih usluga 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Pravna zaštita bitno se mijenja u odnosu na postojeća rješenja i usklađuje sa Direktivom 2007/66,prelazi se na rješenja iz Zakona o upravnom postupku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ill Sans MT"/>
              </a:rPr>
              <a:t>Bitne izmjene postojećih rješenj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Rokovi se bitno mijenjaju;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Subvencionirani ugovori se mijenjaju 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Povjerljivost datana način da se pojednostavi postupak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Okvirni sporazum definiše se u skladu sa Direktivama EU i daje cijeli niz mogućnosti za primjenu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Kvalifikacija kandidata i ponuđača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Diskvalifikacija po osnovu sukoba interesa – antikorupcijska odredba; 152 monitoringa izvještaja o dodjeli ugovora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Tehničke specifikacije se definišu na način primjeren situaciji na tržištu u BiH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600" spc="-1" strike="noStrike">
                <a:solidFill>
                  <a:srgbClr val="000000"/>
                </a:solidFill>
                <a:latin typeface="Gill Sans MT"/>
              </a:rPr>
              <a:t>Okvirni sporazum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Gill Sans MT"/>
              </a:rPr>
              <a:t>Dvije mogućnosti utvrđene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Gill Sans MT"/>
              </a:rPr>
              <a:t>Definisanje koje će olakšati rad ugovornih organa, ali traži se dodatni oprez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Gill Sans MT"/>
              </a:rPr>
              <a:t>Kada koristiti mini tenderisanje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Gill Sans MT"/>
              </a:rPr>
              <a:t>Varijanta prvi, drugi, treći ponuđač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Gill Sans MT"/>
              </a:rPr>
              <a:t>Jasno definisati u TD postupak mini tenderisanja i utjecaj kretanja na tržištu na dodjelu ugovora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09:42:55Z</dcterms:created>
  <dc:creator> </dc:creator>
  <dc:description/>
  <dc:language>en-US</dc:language>
  <cp:lastModifiedBy> </cp:lastModifiedBy>
  <dcterms:modified xsi:type="dcterms:W3CDTF">2011-06-22T12:17:33Z</dcterms:modified>
  <cp:revision>56</cp:revision>
  <dc:subject/>
  <dc:title>Monitoring postupaka javnih nabavki</dc:title>
</cp:coreProperties>
</file>